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097-FD6E-44C4-9E2B-51EB89F7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1B6-6401-4553-8AAC-C8F20CD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746-343B-4DBB-BE4A-95DCB4D9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845-934D-41EE-BAE1-87FF9321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3FF-66C5-4F93-85AD-6FE311EE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9F4-2126-49A7-9E8A-356E555E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E61-D648-45F3-B812-0B6FBC61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00F-70A5-4BFD-AE5C-37251C74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0AD-FCF9-4521-9AE4-4D3CE489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D88-A4EF-45F5-95D0-2B7DA010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88F-33E8-4B9D-B775-9439B805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F4C-C930-4D83-90DD-A185813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ECF2-619A-445E-A8AC-EED6FEA83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eb.mit.edu/invent/i-archive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5751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6095880"/>
            <a:ext cx="329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762120"/>
            <a:ext cx="7467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psicles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55627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. N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5029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ip Hop, 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4/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Pops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ank made the popsicle at age 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mixed a soft drink one winter night in 1905 made with soda, water powder, and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 put it on his front porch over night and in the morning there was a fruity substance on his front por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popsicles gained popularity very quick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rst made with birch wood sticks and sold for just a nick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day hundreds of millions of popsicles are eaten in the U.S every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re are more than thirty flavors including Grape, Lemon, Lime, Banana, Cherry, and Raspber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most popular flavor for year and years is Classic Orang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nk was born in 1894 and raised in San Francisc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the made the best creation to me the pops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ugh he is said to have tasted it and shown  to all his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old his rights to the popsicle to Joe Lowe Company in New Y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Epperson"/>
          <p:cNvPicPr/>
          <p:nvPr/>
        </p:nvPicPr>
        <p:blipFill>
          <a:blip r:embed="rId1"/>
          <a:stretch/>
        </p:blipFill>
        <p:spPr>
          <a:xfrm>
            <a:off x="0" y="0"/>
            <a:ext cx="2881440" cy="5791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Epperson"/>
          <p:cNvPicPr/>
          <p:nvPr/>
        </p:nvPicPr>
        <p:blipFill>
          <a:blip r:embed="rId2"/>
          <a:srcRect l="0" t="0" r="37239" b="10351"/>
          <a:stretch/>
        </p:blipFill>
        <p:spPr>
          <a:xfrm>
            <a:off x="2895480" y="0"/>
            <a:ext cx="6248520" cy="275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Epperson"/>
          <p:cNvPicPr/>
          <p:nvPr/>
        </p:nvPicPr>
        <p:blipFill>
          <a:blip r:embed="rId3"/>
          <a:stretch/>
        </p:blipFill>
        <p:spPr>
          <a:xfrm>
            <a:off x="2895480" y="2743200"/>
            <a:ext cx="624852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57913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ank Epperson Popsic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9/29/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-archi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8Z</dcterms:created>
  <dc:creator>install</dc:creator>
  <dc:description/>
  <dc:language>en-US</dc:language>
  <cp:lastModifiedBy>install</cp:lastModifiedBy>
  <dcterms:modified xsi:type="dcterms:W3CDTF">2010-10-14T17:29:31Z</dcterms:modified>
  <cp:revision>12</cp:revision>
  <dc:subject/>
  <dc:title>Slide 1</dc:title>
</cp:coreProperties>
</file>